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258-A759-4C11-BB61-34BCE629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76B-0C2A-4CA3-AD84-986EAEE4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A7E-978E-421F-94E8-4CA7B2C6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D83-F02C-40FC-B92A-B6C4FCC4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49F-8EDB-478B-ACC3-14FFD08A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966-B545-4EF3-87AB-4BB5FA20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1F5-6024-4C72-A2F7-9265E858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4FE-93CA-4B60-96CF-F46A2278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817-50E1-4347-9AC9-FB16F47B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194-FD27-4318-85C7-562969A3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408-E0D9-4FC6-9738-589D5153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DAC-C608-4FB4-94BD-DC0DA8F8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691E-D262-48A0-84BE-13C6B927C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042920" y="5589720"/>
            <a:ext cx="7058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27"/>
          <p:cNvGrpSpPr/>
          <p:nvPr/>
        </p:nvGrpSpPr>
        <p:grpSpPr>
          <a:xfrm>
            <a:off x="250920" y="189000"/>
            <a:ext cx="539280" cy="6308280"/>
            <a:chOff x="250920" y="189000"/>
            <a:chExt cx="539280" cy="6308280"/>
          </a:xfrm>
        </p:grpSpPr>
        <p:sp>
          <p:nvSpPr>
            <p:cNvPr id="43" name="Freeform 28"/>
            <p:cNvSpPr/>
            <p:nvPr/>
          </p:nvSpPr>
          <p:spPr>
            <a:xfrm rot="16200000">
              <a:off x="490320" y="14673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29"/>
            <p:cNvSpPr/>
            <p:nvPr/>
          </p:nvSpPr>
          <p:spPr>
            <a:xfrm rot="16200000">
              <a:off x="222480" y="14662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0"/>
            <p:cNvSpPr/>
            <p:nvPr/>
          </p:nvSpPr>
          <p:spPr>
            <a:xfrm rot="16200000">
              <a:off x="78840" y="365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1"/>
            <p:cNvSpPr/>
            <p:nvPr/>
          </p:nvSpPr>
          <p:spPr>
            <a:xfrm rot="16200000">
              <a:off x="346680" y="3661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2"/>
            <p:cNvSpPr/>
            <p:nvPr/>
          </p:nvSpPr>
          <p:spPr>
            <a:xfrm rot="16200000">
              <a:off x="345600" y="9910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3"/>
            <p:cNvSpPr/>
            <p:nvPr/>
          </p:nvSpPr>
          <p:spPr>
            <a:xfrm rot="16200000">
              <a:off x="77760" y="9900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"/>
            <p:cNvSpPr/>
            <p:nvPr/>
          </p:nvSpPr>
          <p:spPr>
            <a:xfrm rot="16200000">
              <a:off x="488880" y="461952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5"/>
            <p:cNvSpPr/>
            <p:nvPr/>
          </p:nvSpPr>
          <p:spPr>
            <a:xfrm rot="16200000">
              <a:off x="219240" y="461628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6"/>
            <p:cNvSpPr/>
            <p:nvPr/>
          </p:nvSpPr>
          <p:spPr>
            <a:xfrm rot="16200000">
              <a:off x="490320" y="18000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7"/>
            <p:cNvSpPr/>
            <p:nvPr/>
          </p:nvSpPr>
          <p:spPr>
            <a:xfrm rot="16200000">
              <a:off x="222480" y="17989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8"/>
            <p:cNvSpPr/>
            <p:nvPr/>
          </p:nvSpPr>
          <p:spPr>
            <a:xfrm rot="16200000">
              <a:off x="74880" y="3516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9"/>
            <p:cNvSpPr/>
            <p:nvPr/>
          </p:nvSpPr>
          <p:spPr>
            <a:xfrm rot="16200000">
              <a:off x="346680" y="3519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0"/>
            <p:cNvSpPr/>
            <p:nvPr/>
          </p:nvSpPr>
          <p:spPr>
            <a:xfrm rot="16200000">
              <a:off x="74880" y="2895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1"/>
            <p:cNvSpPr/>
            <p:nvPr/>
          </p:nvSpPr>
          <p:spPr>
            <a:xfrm rot="16200000">
              <a:off x="346680" y="2898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42"/>
            <p:cNvSpPr/>
            <p:nvPr/>
          </p:nvSpPr>
          <p:spPr>
            <a:xfrm rot="16200000">
              <a:off x="343440" y="41443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3"/>
            <p:cNvSpPr/>
            <p:nvPr/>
          </p:nvSpPr>
          <p:spPr>
            <a:xfrm rot="16200000">
              <a:off x="73800" y="41414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4"/>
            <p:cNvSpPr/>
            <p:nvPr/>
          </p:nvSpPr>
          <p:spPr>
            <a:xfrm rot="16200000">
              <a:off x="345600" y="227844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5"/>
            <p:cNvSpPr/>
            <p:nvPr/>
          </p:nvSpPr>
          <p:spPr>
            <a:xfrm rot="16200000">
              <a:off x="75600" y="22752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6"/>
            <p:cNvSpPr/>
            <p:nvPr/>
          </p:nvSpPr>
          <p:spPr>
            <a:xfrm rot="16200000">
              <a:off x="487800" y="495360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7"/>
            <p:cNvSpPr/>
            <p:nvPr/>
          </p:nvSpPr>
          <p:spPr>
            <a:xfrm rot="16200000">
              <a:off x="218520" y="49514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8"/>
            <p:cNvSpPr/>
            <p:nvPr/>
          </p:nvSpPr>
          <p:spPr>
            <a:xfrm rot="16200000">
              <a:off x="74880" y="60508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9"/>
            <p:cNvSpPr/>
            <p:nvPr/>
          </p:nvSpPr>
          <p:spPr>
            <a:xfrm rot="16200000">
              <a:off x="344160" y="605340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0"/>
            <p:cNvSpPr/>
            <p:nvPr/>
          </p:nvSpPr>
          <p:spPr>
            <a:xfrm rot="16200000">
              <a:off x="342720" y="543060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1"/>
            <p:cNvSpPr/>
            <p:nvPr/>
          </p:nvSpPr>
          <p:spPr>
            <a:xfrm rot="16200000">
              <a:off x="73080" y="5428080"/>
              <a:ext cx="6242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7"/>
          <p:cNvGrpSpPr/>
          <p:nvPr/>
        </p:nvGrpSpPr>
        <p:grpSpPr>
          <a:xfrm>
            <a:off x="8429760" y="214200"/>
            <a:ext cx="539280" cy="6308640"/>
            <a:chOff x="8429760" y="214200"/>
            <a:chExt cx="539280" cy="6308640"/>
          </a:xfrm>
        </p:grpSpPr>
        <p:sp>
          <p:nvSpPr>
            <p:cNvPr id="68" name="Freeform 28"/>
            <p:cNvSpPr/>
            <p:nvPr/>
          </p:nvSpPr>
          <p:spPr>
            <a:xfrm rot="16200000">
              <a:off x="8669160" y="14925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 rot="16200000">
              <a:off x="8401320" y="14914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 rot="16200000">
              <a:off x="8257680" y="3902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 rot="16200000">
              <a:off x="8525520" y="3913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 rot="16200000">
              <a:off x="8524440" y="10162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 rot="16200000">
              <a:off x="8256600" y="10152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 rot="16200000">
              <a:off x="8667720" y="464508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 rot="16200000">
              <a:off x="8398080" y="464184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 rot="16200000">
              <a:off x="8669160" y="18252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 rot="16200000">
              <a:off x="8401320" y="18241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rot="16200000">
              <a:off x="8253720" y="35416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rot="16200000">
              <a:off x="8525520" y="3544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 rot="16200000">
              <a:off x="8253720" y="2921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 rot="16200000">
              <a:off x="8525520" y="2923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 rot="16200000">
              <a:off x="8522280" y="41695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 rot="16200000">
              <a:off x="8252640" y="41666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 rot="16200000">
              <a:off x="8524440" y="230400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5"/>
            <p:cNvSpPr/>
            <p:nvPr/>
          </p:nvSpPr>
          <p:spPr>
            <a:xfrm rot="16200000">
              <a:off x="8254440" y="23004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6"/>
            <p:cNvSpPr/>
            <p:nvPr/>
          </p:nvSpPr>
          <p:spPr>
            <a:xfrm rot="16200000">
              <a:off x="8666640" y="497916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7"/>
            <p:cNvSpPr/>
            <p:nvPr/>
          </p:nvSpPr>
          <p:spPr>
            <a:xfrm rot="16200000">
              <a:off x="8397360" y="49766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8"/>
            <p:cNvSpPr/>
            <p:nvPr/>
          </p:nvSpPr>
          <p:spPr>
            <a:xfrm rot="16200000">
              <a:off x="8253720" y="60764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9"/>
            <p:cNvSpPr/>
            <p:nvPr/>
          </p:nvSpPr>
          <p:spPr>
            <a:xfrm rot="16200000">
              <a:off x="8523000" y="607896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0"/>
            <p:cNvSpPr/>
            <p:nvPr/>
          </p:nvSpPr>
          <p:spPr>
            <a:xfrm rot="16200000">
              <a:off x="8521560" y="545616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 rot="16200000">
              <a:off x="8251560" y="5453280"/>
              <a:ext cx="6246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54"/>
          <p:cNvSpPr/>
          <p:nvPr/>
        </p:nvSpPr>
        <p:spPr>
          <a:xfrm>
            <a:off x="857160" y="1071720"/>
            <a:ext cx="7643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Павлодар қаласының № 41 дене шынықтыру-сауықтыру бағытындағы жалпы орта білім беру бейіндік мектебі» Мемлекеттік мекемес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kk-K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 “В” сынып оқушы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МАГУЛОВА АРУЖ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екшісі: Ахметова А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Э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lt"/>
          <p:cNvPicPr/>
          <p:nvPr/>
        </p:nvPicPr>
        <p:blipFill>
          <a:blip r:embed="rId2"/>
          <a:stretch/>
        </p:blipFill>
        <p:spPr>
          <a:xfrm>
            <a:off x="7956720" y="189000"/>
            <a:ext cx="1008000" cy="666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alt"/>
          <p:cNvPicPr/>
          <p:nvPr/>
        </p:nvPicPr>
        <p:blipFill>
          <a:blip r:embed="rId3"/>
          <a:stretch/>
        </p:blipFill>
        <p:spPr>
          <a:xfrm>
            <a:off x="0" y="5634000"/>
            <a:ext cx="824400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4"/>
          <p:cNvSpPr/>
          <p:nvPr/>
        </p:nvSpPr>
        <p:spPr>
          <a:xfrm>
            <a:off x="1214280" y="2714760"/>
            <a:ext cx="65008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ені жақсы көр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үндей күліп кел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өп ертегі біл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аған айтып бе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D:\ДОКУМЕНТЫ!\2012-2013 уч.год\Ерботин\Аружан Исмагулова фото сайтка\06112012609.jpg"/>
          <p:cNvPicPr/>
          <p:nvPr/>
        </p:nvPicPr>
        <p:blipFill>
          <a:blip r:embed="rId4"/>
          <a:stretch/>
        </p:blipFill>
        <p:spPr>
          <a:xfrm rot="20959800">
            <a:off x="387360" y="591840"/>
            <a:ext cx="4329000" cy="376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D:\ДОКУМЕНТЫ!\2012-2013 уч.год\Ерботин\Аружан Исмагулова фото сайтка\06112012610.jpg"/>
          <p:cNvPicPr/>
          <p:nvPr/>
        </p:nvPicPr>
        <p:blipFill>
          <a:blip r:embed="rId5"/>
          <a:stretch/>
        </p:blipFill>
        <p:spPr>
          <a:xfrm rot="762000">
            <a:off x="4383000" y="735120"/>
            <a:ext cx="4337280" cy="3714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1"/>
          <p:cNvSpPr/>
          <p:nvPr/>
        </p:nvSpPr>
        <p:spPr>
          <a:xfrm>
            <a:off x="1428840" y="357120"/>
            <a:ext cx="63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Arial"/>
              </a:rPr>
              <a:t>МЕНІҢ ӘЖ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Э20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5857920" y="3786120"/>
            <a:ext cx="28573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Мен гүлдерді жұлм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Торғайларды қумаймы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Айтқан  сөзін тыңд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Әжешімді сыйлаймы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:\ДОКУМЕНТЫ!\2012-2013 уч.год\Ерботин\Аружан Исмагулова фото сайтка\06112012611.jpg"/>
          <p:cNvPicPr/>
          <p:nvPr/>
        </p:nvPicPr>
        <p:blipFill>
          <a:blip r:embed="rId2"/>
          <a:stretch/>
        </p:blipFill>
        <p:spPr>
          <a:xfrm>
            <a:off x="292896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D:\ДОКУМЕНТЫ!\2012-2013 уч.год\Ерботин\Аружан Исмагулова фото сайтка\06112012612.jpg"/>
          <p:cNvPicPr/>
          <p:nvPr/>
        </p:nvPicPr>
        <p:blipFill>
          <a:blip r:embed="rId3"/>
          <a:stretch/>
        </p:blipFill>
        <p:spPr>
          <a:xfrm>
            <a:off x="142920" y="14292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ДОКУМЕНТЫ!\2012-2013 уч.год\Ерботин\Аружан Исмагулова фото сайтка\06112012613.jpg"/>
          <p:cNvPicPr/>
          <p:nvPr/>
        </p:nvPicPr>
        <p:blipFill>
          <a:blip r:embed="rId4"/>
          <a:stretch/>
        </p:blipFill>
        <p:spPr>
          <a:xfrm>
            <a:off x="592920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D:\ДОКУМЕНТЫ!\2012-2013 уч.год\Ерботин\Аружан Исмагулова фото сайтка\06112012614.jpg"/>
          <p:cNvPicPr/>
          <p:nvPr/>
        </p:nvPicPr>
        <p:blipFill>
          <a:blip r:embed="rId5"/>
          <a:stretch/>
        </p:blipFill>
        <p:spPr>
          <a:xfrm>
            <a:off x="142920" y="3643200"/>
            <a:ext cx="3214800" cy="3000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D:\ДОКУМЕНТЫ!\2012-2013 уч.год\Ерботин\Аружан Исмагулова фото сайтка\06112012615.jpg"/>
          <p:cNvPicPr/>
          <p:nvPr/>
        </p:nvPicPr>
        <p:blipFill>
          <a:blip r:embed="rId6"/>
          <a:stretch/>
        </p:blipFill>
        <p:spPr>
          <a:xfrm>
            <a:off x="3071880" y="3643200"/>
            <a:ext cx="3002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826920" y="765000"/>
            <a:ext cx="770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1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250920" y="2997360"/>
            <a:ext cx="8640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Picture 6" descr="D:\ДОКУМЕНТЫ!\2012-2013 уч.год\Ерботин\Аружан Исмагулова фото сайтка\06112012616.jpg"/>
          <p:cNvPicPr/>
          <p:nvPr/>
        </p:nvPicPr>
        <p:blipFill>
          <a:blip r:embed="rId2"/>
          <a:stretch/>
        </p:blipFill>
        <p:spPr>
          <a:xfrm rot="20782200">
            <a:off x="612360" y="458640"/>
            <a:ext cx="2513160" cy="368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D:\ДОКУМЕНТЫ!\2012-2013 уч.год\Ерботин\Аружан Исмагулова фото сайтка\06112012617.jpg"/>
          <p:cNvPicPr/>
          <p:nvPr/>
        </p:nvPicPr>
        <p:blipFill>
          <a:blip r:embed="rId3"/>
          <a:stretch/>
        </p:blipFill>
        <p:spPr>
          <a:xfrm>
            <a:off x="3286080" y="214200"/>
            <a:ext cx="2511360" cy="35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D:\ДОКУМЕНТЫ!\2012-2013 уч.год\Ерботин\Аружан Исмагулова фото сайтка\06112012618.jpg"/>
          <p:cNvPicPr/>
          <p:nvPr/>
        </p:nvPicPr>
        <p:blipFill>
          <a:blip r:embed="rId4"/>
          <a:stretch/>
        </p:blipFill>
        <p:spPr>
          <a:xfrm rot="672000">
            <a:off x="5896080" y="806040"/>
            <a:ext cx="2770200" cy="360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D:\ДОКУМЕНТЫ!\2012-2013 уч.год\Ерботин\Аружан Исмагулова фото сайтка\06112012619.jpg"/>
          <p:cNvPicPr/>
          <p:nvPr/>
        </p:nvPicPr>
        <p:blipFill>
          <a:blip r:embed="rId5"/>
          <a:stretch/>
        </p:blipFill>
        <p:spPr>
          <a:xfrm rot="20976000">
            <a:off x="2336400" y="3330360"/>
            <a:ext cx="2357640" cy="316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D:\ДОКУМЕНТЫ!\2012-2013 уч.год\Ерботин\Аружан Исмагулова фото сайтка\06112012620.jpg"/>
          <p:cNvPicPr/>
          <p:nvPr/>
        </p:nvPicPr>
        <p:blipFill>
          <a:blip r:embed="rId6"/>
          <a:stretch/>
        </p:blipFill>
        <p:spPr>
          <a:xfrm rot="732000">
            <a:off x="4963680" y="3541680"/>
            <a:ext cx="24433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ДОКУМЕНТЫ!\2012-2013 уч.год\Ерботин\Аружан Исмагулова фото сайтка\06112012622.jpg"/>
          <p:cNvPicPr/>
          <p:nvPr/>
        </p:nvPicPr>
        <p:blipFill>
          <a:blip r:embed="rId2"/>
          <a:stretch/>
        </p:blipFill>
        <p:spPr>
          <a:xfrm>
            <a:off x="214200" y="714240"/>
            <a:ext cx="3571920" cy="5218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3929040" y="642960"/>
            <a:ext cx="50720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қсы көріп ол 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уеніме шөлд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й-әй бөпем әнім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Бесігімді тербей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тұлпа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сұңқ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урап қалып жүрме деп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Көрпемді қым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ДОКУМЕНТЫ!\2012-2013 уч.год\Ерботин\Аружан Исмагулова фото сайтка\06112012623.jpg"/>
          <p:cNvPicPr/>
          <p:nvPr/>
        </p:nvPicPr>
        <p:blipFill>
          <a:blip r:embed="rId2"/>
          <a:stretch/>
        </p:blipFill>
        <p:spPr>
          <a:xfrm rot="20796000">
            <a:off x="1058760" y="2066400"/>
            <a:ext cx="2776680" cy="4530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ДОКУМЕНТЫ!\2012-2013 уч.год\Ерботин\Аружан Исмагулова фото сайтка\06112012621.jpg"/>
          <p:cNvPicPr/>
          <p:nvPr/>
        </p:nvPicPr>
        <p:blipFill>
          <a:blip r:embed="rId3"/>
          <a:stretch/>
        </p:blipFill>
        <p:spPr>
          <a:xfrm rot="575400">
            <a:off x="5138280" y="2187360"/>
            <a:ext cx="2880000" cy="446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143000" y="357120"/>
            <a:ext cx="6500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Өзің маған қарайсың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Нұрын шашқан ақ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Мен үшін сен арайсың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Басымдағы бақ,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2" descr=""/>
          <p:cNvPicPr/>
          <p:nvPr/>
        </p:nvPicPr>
        <p:blipFill>
          <a:blip r:embed="rId2"/>
          <a:stretch/>
        </p:blipFill>
        <p:spPr>
          <a:xfrm>
            <a:off x="182520" y="665280"/>
            <a:ext cx="8626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30:44Z</dcterms:created>
  <dc:creator>Пользователь</dc:creator>
  <dc:description/>
  <dc:language>en-US</dc:language>
  <cp:lastModifiedBy>dashka</cp:lastModifiedBy>
  <dcterms:modified xsi:type="dcterms:W3CDTF">2012-11-28T08:32:57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f000000000001024110</vt:lpwstr>
  </property>
</Properties>
</file>